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52DF-77B6-48E3-86C3-31AE2BB8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40A3-8F96-4E5A-8DA8-16249495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0EE2-3A9B-4333-9533-51AE34E8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1C39-F17F-4AAB-BFAD-C49363E3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A904-C227-4A15-8493-A4D63ADA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9C01-D56A-418C-84F5-F4B48B4F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412E-A9A6-4172-A1FC-4FCE8F24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C1EA-3475-4491-ACB2-1C77B098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AA0A-4EB4-45A4-AF74-BC7E8DD1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F583-B4B7-4A79-B4BA-A76BB521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8DA5-BD93-4CBE-94C5-8900916D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E3CF4-F487-4F00-BFEC-2EE8147C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C3F0-BB02-40A6-801B-47278045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3A84-434F-4229-9451-FCC05305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3A0A-3097-4E2C-ACE0-854D9423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4103-403E-4B62-932F-1E18CE34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A38C-E80F-43A1-9E39-93639CE0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0DE4-A796-4F01-A2EF-EEE8BFD2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4707-383C-498D-AA77-64063714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BA37-2F28-47F3-97B2-87A57C2E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826AD-3D32-4C03-84EC-601122FB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2101F-3DB0-444B-AA1F-E2179866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13B74-0CA1-4864-96EC-FF797743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A4F6-66D0-4174-A10C-E3AC45AE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BAF1-E9F0-47D7-82A0-828DDE7A09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ADD3-9E21-435D-8D10-FF1DDACC54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87640" y="4292280"/>
            <a:ext cx="6019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оставитель: ученик 10 класса Гришин Н.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lip_image013"/>
          <p:cNvPicPr/>
          <p:nvPr/>
        </p:nvPicPr>
        <p:blipFill>
          <a:blip r:embed="rId1"/>
          <a:stretch/>
        </p:blipFill>
        <p:spPr>
          <a:xfrm>
            <a:off x="928800" y="4643280"/>
            <a:ext cx="1428480" cy="1333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lip_image015"/>
          <p:cNvPicPr/>
          <p:nvPr/>
        </p:nvPicPr>
        <p:blipFill>
          <a:blip r:embed="rId2"/>
          <a:stretch/>
        </p:blipFill>
        <p:spPr>
          <a:xfrm>
            <a:off x="6588000" y="5373720"/>
            <a:ext cx="1428840" cy="136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t-byu"/>
          <p:cNvPicPr/>
          <p:nvPr/>
        </p:nvPicPr>
        <p:blipFill>
          <a:blip r:embed="rId3"/>
          <a:stretch/>
        </p:blipFill>
        <p:spPr>
          <a:xfrm>
            <a:off x="3564000" y="544500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110" name="Объект WordArt 9"/>
          <p:cNvSpPr txBox="1"/>
          <p:nvPr/>
        </p:nvSpPr>
        <p:spPr>
          <a:xfrm>
            <a:off x="2268360" y="2637000"/>
            <a:ext cx="669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сокрыто в замерзшей вод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24000" y="1628640"/>
            <a:ext cx="561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Снежинки растут из испарений воды. Снежные кристаллы образуются, когда испарения воды конденсируются непосредственно в лёд, что случается в облаках. Снежинки возникают вследствие роста кристаллов. Самая основная форма кристаллического снега – шестиугольная призма. Шестиугольная призма может быть </a:t>
            </a:r>
            <a:r>
              <a:rPr b="1" i="1" lang="ru-RU" sz="2400" spc="-1" strike="noStrike" u="sng">
                <a:solidFill>
                  <a:srgbClr val="9900cc"/>
                </a:solidFill>
                <a:uFillTx/>
                <a:latin typeface="Arial"/>
              </a:rPr>
              <a:t>пластинчатой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 или </a:t>
            </a:r>
            <a:r>
              <a:rPr b="1" i="1" lang="ru-RU" sz="2400" spc="-1" strike="noStrike" u="sng">
                <a:solidFill>
                  <a:srgbClr val="9900cc"/>
                </a:solidFill>
                <a:uFillTx/>
                <a:latin typeface="Arial"/>
              </a:rPr>
              <a:t>столбчатой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, что зависит от скорости роста поверхностей.</a:t>
            </a:r>
            <a:r>
              <a:rPr b="1" i="1" lang="ru-R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бъект WordArt 7"/>
          <p:cNvSpPr txBox="1"/>
          <p:nvPr/>
        </p:nvSpPr>
        <p:spPr>
          <a:xfrm>
            <a:off x="108000" y="549360"/>
            <a:ext cx="90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Рисунок 8" descr="Разновидности призм в зависимости от их роста"/>
          <p:cNvPicPr/>
          <p:nvPr/>
        </p:nvPicPr>
        <p:blipFill>
          <a:blip r:embed="rId1"/>
          <a:stretch/>
        </p:blipFill>
        <p:spPr>
          <a:xfrm>
            <a:off x="5292720" y="2565360"/>
            <a:ext cx="37083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Объект WordArt 6"/>
          <p:cNvSpPr txBox="1"/>
          <p:nvPr/>
        </p:nvSpPr>
        <p:spPr>
          <a:xfrm>
            <a:off x="468360" y="907920"/>
            <a:ext cx="8280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чего сделан лед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снежинк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Плотная масса льда обычно поликристаллическая, т.е. состоит из множества отдельных кристаллов. Иногда эти кристаллы можно различить в тающем льду. Тогда видно, что лед состоит как бы из "карандашиков", сросшихся вместе: шестигранные столбики параллельны друг другу и стоят торчком к поверхности воды; эти "карандашики" и есть кристаллики ль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roldjye"/>
          <p:cNvPicPr/>
          <p:nvPr/>
        </p:nvPicPr>
        <p:blipFill>
          <a:blip r:embed="rId1"/>
          <a:stretch/>
        </p:blipFill>
        <p:spPr>
          <a:xfrm>
            <a:off x="1042920" y="4365720"/>
            <a:ext cx="271476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lip_image034"/>
          <p:cNvPicPr/>
          <p:nvPr/>
        </p:nvPicPr>
        <p:blipFill>
          <a:blip r:embed="rId2"/>
          <a:stretch/>
        </p:blipFill>
        <p:spPr>
          <a:xfrm>
            <a:off x="4932360" y="4365720"/>
            <a:ext cx="292896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Объект WordArt 7"/>
          <p:cNvSpPr txBox="1"/>
          <p:nvPr/>
        </p:nvSpPr>
        <p:spPr>
          <a:xfrm>
            <a:off x="1835280" y="115920"/>
            <a:ext cx="5400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з чего сделан ле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57120" y="259920"/>
            <a:ext cx="4430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Очень опасны для растений весенние или осенние заморозки. Температура почвы и воздуха падает ниже нуля, подпочвенные воды и соки растений замерзают, образуя иголочки кристалликов льда. Эти острые иголки рвут нежные ткани растений, листья сморщиваются, чернеют, стебли и корни разруш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lip_image005"/>
          <p:cNvPicPr/>
          <p:nvPr/>
        </p:nvPicPr>
        <p:blipFill>
          <a:blip r:embed="rId1"/>
          <a:stretch/>
        </p:blipFill>
        <p:spPr>
          <a:xfrm>
            <a:off x="5508720" y="47628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lip_image007"/>
          <p:cNvPicPr/>
          <p:nvPr/>
        </p:nvPicPr>
        <p:blipFill>
          <a:blip r:embed="rId2"/>
          <a:stretch/>
        </p:blipFill>
        <p:spPr>
          <a:xfrm>
            <a:off x="5219640" y="3716280"/>
            <a:ext cx="3529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1844280"/>
            <a:ext cx="453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В словаре Ожегова определение такое: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ИНЕЙ - тонкий снежный слой, образующийся благодаря испарениям на охлаждающейся поверхности в холодные ночи. 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КАК и ПОЧЕМУ он образуе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" descr="pimg_236_1085"/>
          <p:cNvPicPr/>
          <p:nvPr/>
        </p:nvPicPr>
        <p:blipFill>
          <a:blip r:embed="rId1"/>
          <a:stretch/>
        </p:blipFill>
        <p:spPr>
          <a:xfrm>
            <a:off x="4284720" y="333360"/>
            <a:ext cx="2158920" cy="1946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lip_image011"/>
          <p:cNvPicPr/>
          <p:nvPr/>
        </p:nvPicPr>
        <p:blipFill>
          <a:blip r:embed="rId2"/>
          <a:stretch/>
        </p:blipFill>
        <p:spPr>
          <a:xfrm>
            <a:off x="6588000" y="1197000"/>
            <a:ext cx="237672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lip_image0567"/>
          <p:cNvPicPr/>
          <p:nvPr/>
        </p:nvPicPr>
        <p:blipFill>
          <a:blip r:embed="rId3"/>
          <a:srcRect l="0" t="656" r="0" b="656"/>
          <a:stretch/>
        </p:blipFill>
        <p:spPr>
          <a:xfrm>
            <a:off x="5796000" y="4221000"/>
            <a:ext cx="2208240" cy="2459160"/>
          </a:xfrm>
          <a:prstGeom prst="rect">
            <a:avLst/>
          </a:prstGeom>
          <a:ln w="0">
            <a:noFill/>
          </a:ln>
        </p:spPr>
      </p:pic>
      <p:sp>
        <p:nvSpPr>
          <p:cNvPr id="124" name="Объект WordArt 7"/>
          <p:cNvSpPr txBox="1"/>
          <p:nvPr/>
        </p:nvSpPr>
        <p:spPr>
          <a:xfrm>
            <a:off x="395280" y="620640"/>
            <a:ext cx="35146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что такое иней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9280" y="3212640"/>
            <a:ext cx="87854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cc"/>
                </a:solidFill>
                <a:latin typeface="Arial"/>
              </a:rPr>
              <a:t>В жилом помещении в воздухе есть молекулы воды и любое окно в морозы будет холоднее стен. Влага из теплого воздуха попадает на холодное стекло и остается там в виде капелек воды, которые при сильных морозах превращаются в кристаллики льда. И вот, что еще интересно: иней никогда не образуется на тонких ветвистых предметах. А то, что осаждается на проводах, на ветках кустов и деревьев, называется - изморозь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pimg_234_1085"/>
          <p:cNvPicPr/>
          <p:nvPr/>
        </p:nvPicPr>
        <p:blipFill>
          <a:blip r:embed="rId1"/>
          <a:stretch/>
        </p:blipFill>
        <p:spPr>
          <a:xfrm>
            <a:off x="5364000" y="836640"/>
            <a:ext cx="259272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pimg_235_1085"/>
          <p:cNvPicPr/>
          <p:nvPr/>
        </p:nvPicPr>
        <p:blipFill>
          <a:blip r:embed="rId2"/>
          <a:stretch/>
        </p:blipFill>
        <p:spPr>
          <a:xfrm>
            <a:off x="1258920" y="620640"/>
            <a:ext cx="3097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1844280"/>
            <a:ext cx="8928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Снежинки - это кристаллы льда, точнее сростки простейших кристалликов льда - иголочек и пластинок. Снежинки образуются из перенасыщенного водяного пара. Центрами кристаллизации являются взвешенные в воздухе пылинки.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бъект WordArt 5"/>
          <p:cNvSpPr txBox="1"/>
          <p:nvPr/>
        </p:nvSpPr>
        <p:spPr>
          <a:xfrm>
            <a:off x="1619280" y="333360"/>
            <a:ext cx="6697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такое снежинка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Объект WordArt 7"/>
          <p:cNvSpPr txBox="1"/>
          <p:nvPr/>
        </p:nvSpPr>
        <p:spPr>
          <a:xfrm>
            <a:off x="1258920" y="3645000"/>
            <a:ext cx="6180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динаковые ли снежинки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Поле 8"/>
          <p:cNvSpPr/>
          <p:nvPr/>
        </p:nvSpPr>
        <p:spPr>
          <a:xfrm>
            <a:off x="755640" y="4581360"/>
            <a:ext cx="815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Многим, наверное, известно, что встретить в природе пару идентичных снежинок невозможно, но они могут быть очень похожи друг на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Строение молекулы воды представляет собой тетраэдр (шестиугольник). Между лучами кристаллов возможны лишь углы 60 и 120 градусов. Впоследствии на вершинах этого шестиугольника оседают новые молекулы, образуя тем самым причудливые формы снежинок. В процессе перемещения в атмосфере, а также под воздействием перепада температур кристаллы могут частично подтаивать и снова замерзать, образуя смешанные формы узоров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бъект WordArt 4"/>
          <p:cNvSpPr txBox="1"/>
          <p:nvPr/>
        </p:nvSpPr>
        <p:spPr>
          <a:xfrm>
            <a:off x="1476360" y="549360"/>
            <a:ext cx="6180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динаковые ли снежинки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6408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снежинки,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снежные кристаллы образуются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зо льда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бъект WordArt 4"/>
          <p:cNvSpPr txBox="1"/>
          <p:nvPr/>
        </p:nvSpPr>
        <p:spPr>
          <a:xfrm>
            <a:off x="108000" y="549360"/>
            <a:ext cx="90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Рисунок 5" descr="Кристаллическая структура льда"/>
          <p:cNvPicPr/>
          <p:nvPr/>
        </p:nvPicPr>
        <p:blipFill>
          <a:blip r:embed="rId1"/>
          <a:stretch/>
        </p:blipFill>
        <p:spPr>
          <a:xfrm>
            <a:off x="324000" y="2637000"/>
            <a:ext cx="2549520" cy="1371600"/>
          </a:xfrm>
          <a:prstGeom prst="rect">
            <a:avLst/>
          </a:prstGeom>
          <a:ln w="0">
            <a:noFill/>
          </a:ln>
        </p:spPr>
      </p:pic>
      <p:sp>
        <p:nvSpPr>
          <p:cNvPr id="137" name="Поле 6"/>
          <p:cNvSpPr/>
          <p:nvPr/>
        </p:nvSpPr>
        <p:spPr>
          <a:xfrm>
            <a:off x="395280" y="4076640"/>
            <a:ext cx="806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труктура кристаллов ль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олекулы воды в кристалле льда формируют шестиугольную решётку. Красные шары – атомы кислорода. Серые палочки – атомы водорода. По два водорода на один кислород – Н</a:t>
            </a:r>
            <a:r>
              <a:rPr b="1" i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бъект WordArt 7"/>
          <p:cNvSpPr txBox="1"/>
          <p:nvPr/>
        </p:nvSpPr>
        <p:spPr>
          <a:xfrm>
            <a:off x="108000" y="549360"/>
            <a:ext cx="90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4:40:46Z</dcterms:created>
  <dc:creator>26091</dc:creator>
  <dc:description/>
  <dc:language>en-US</dc:language>
  <cp:lastModifiedBy>26091</cp:lastModifiedBy>
  <dcterms:modified xsi:type="dcterms:W3CDTF">2010-06-03T13:42:10Z</dcterms:modified>
  <cp:revision>41</cp:revision>
  <dc:subject/>
  <dc:title>Что сокрыто в замерзшей воде</dc:title>
</cp:coreProperties>
</file>